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DBF-189A-4936-A43E-9CF212E1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A27-07C8-4668-8086-7BE4A0E3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569-5587-48A8-99C7-937842D6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679-1363-45DE-9093-F38AE673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874-1200-49E9-8FAA-869B63F1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D67-95BB-4D0D-8D2E-6F9C525B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500-9826-48E5-9EE1-577DE5C6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72E-8B28-4DA1-A30C-1227B5B6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1F8-C9C1-40FF-BCAD-DDA94C2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12B-B14D-4EB1-B2DE-2F881668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C6E-4EFB-4971-A9F6-7B7579F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944-B385-4CE8-AD5D-4CC3DAA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2168-F0CE-4F20-A4E0-CB3E98CEDE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5DDB-A479-480E-BE20-8C3CCA3B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371600"/>
            <a:ext cx="609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762120"/>
            <a:ext cx="62485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elements is NOT responsible for a significant portion of the mass of living th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523880"/>
            <a:ext cx="556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Sulf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33520"/>
            <a:ext cx="563904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of the following are inorganic compounds excep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cloric ac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dium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447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gluc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219320"/>
            <a:ext cx="5639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tom becomes a cation if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 It gains elec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Loses elec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.  Shares elec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523880"/>
            <a:ext cx="579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75248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Loses an elect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1219320"/>
            <a:ext cx="4419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rocess where water molecules surround ions during the process of dissolving is call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523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yd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1295280"/>
            <a:ext cx="579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characteristic of water molecules directly contributes to the remarkable “water walking” success of water striders?  (bugs that walk on water’s surfa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36232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685800"/>
            <a:ext cx="6858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is NOT a characteristic of a living th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 to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f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57200"/>
            <a:ext cx="6781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kind of isomers are these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ometric, enantiomers or polym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8848800" cy="227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9051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ometric iso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11430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2046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2819520"/>
            <a:ext cx="4647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reaction i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13716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  hydr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60020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ifference between a hexose and a pentose is tha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066680"/>
            <a:ext cx="48769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exose has 6 carbons and a pentose has 5 carb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048040" cy="2133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2619360" cy="289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523880"/>
            <a:ext cx="6858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ydrolysis of a triacylglycerol will y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glycerols and one fatty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atty acides and one 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213372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.  Three fatty acids and one glyce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685800"/>
            <a:ext cx="67816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abundant molecules in a cell membran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al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cylglyce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0574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  phospho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23623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 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219320"/>
            <a:ext cx="67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rimary difference between the 20 different amino acids that make up proteins i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1447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5238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it advantageous for a cell to be sm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18288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s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990720"/>
            <a:ext cx="5715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lipids can form bilayer structures because of the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tangular 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hipathic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dissolve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1752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 Amphipathic n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457200"/>
            <a:ext cx="63244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component of a eukaryotic cell membr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1600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  cholester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676520"/>
            <a:ext cx="54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red blood cells are placed in a hypertonic external solution, they will:  shrink or swe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19051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hrin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685800"/>
            <a:ext cx="7010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st plants and animals reproduce (sexually/asexually) which (increases/decreases) genetic 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219320"/>
            <a:ext cx="701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erve cells are arrested prior to _____ of the cell cyc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0574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 ph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449280"/>
            <a:ext cx="61722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does not require energ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13716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  osm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990720"/>
            <a:ext cx="6172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human white blood cell engulfs a bacterial cell b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g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90512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  phagocyt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1280880"/>
            <a:ext cx="7162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higher the concentration of solute in a solution, the ____ the effective water concentration and the _____ the osmotic press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22860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, hig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21932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atient hemorrhages and receives a large transfusion of distilled water into a major blood vessel.  What happens?  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160020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fatal consequences:  RBC will swell and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8288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xually/incr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1905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7467480" cy="4003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752480" y="304920"/>
            <a:ext cx="563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SOLUTION is Hypertonic?  Hypotonic?  Isoton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238880" cy="3880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676520" y="457200"/>
            <a:ext cx="4952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 isot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762120"/>
            <a:ext cx="58672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in living things can be transmitted:  genes, hormones, electrical activity and neurotransmi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190512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295280"/>
            <a:ext cx="64008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ultimate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of genetic variation 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8108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utations in D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09-01-06T18:40:51Z</dcterms:modified>
  <cp:revision>37</cp:revision>
  <dc:subject/>
  <dc:title>Blank Jeopardy</dc:title>
</cp:coreProperties>
</file>